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473-EE36-433F-B240-E602D238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03C-73EB-4273-962D-2A614771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53B-757F-4CCD-BC60-E80B1D67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012-4342-4110-B258-538ED2B3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5D7-2691-42FC-85DD-7D9364F1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FBB-B95E-4FD8-ACAD-511A3921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637-FA84-4880-85E2-EFFD9AD3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9A8-CEDA-4314-B8D7-2B292790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F1E-EB48-4019-ABB7-F7B56CFA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5E3-8DFC-4C2C-8672-45A1F1F3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BD9-0042-43F6-8C88-B1F0CE83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C24-0A76-4DB4-A761-69C9550B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3C17-6E74-411B-97D1-A129F452D0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7080" y="2133720"/>
            <a:ext cx="712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rude vs Adjusted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stimat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600200" y="1428840"/>
            <a:ext cx="62485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371600" y="1600200"/>
            <a:ext cx="6477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600200" y="1523880"/>
            <a:ext cx="6248520" cy="3857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5120" y="3429000"/>
            <a:ext cx="5638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7887"/>
          <a:stretch/>
        </p:blipFill>
        <p:spPr>
          <a:xfrm>
            <a:off x="1371600" y="1752480"/>
            <a:ext cx="6324480" cy="392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6520" y="3657600"/>
            <a:ext cx="56386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523880" y="1371600"/>
            <a:ext cx="67820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600200" y="1295280"/>
            <a:ext cx="640080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523880"/>
            <a:ext cx="60195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600200" y="1447920"/>
            <a:ext cx="601992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828800" y="1501920"/>
            <a:ext cx="609588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0872"/>
          <a:stretch/>
        </p:blipFill>
        <p:spPr>
          <a:xfrm>
            <a:off x="1905120" y="2362320"/>
            <a:ext cx="571500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8449"/>
          <a:stretch/>
        </p:blipFill>
        <p:spPr>
          <a:xfrm>
            <a:off x="1752480" y="1295280"/>
            <a:ext cx="563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42721"/>
          <a:stretch/>
        </p:blipFill>
        <p:spPr>
          <a:xfrm>
            <a:off x="1752480" y="3200400"/>
            <a:ext cx="5639040" cy="2438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0" b="70872"/>
          <a:stretch/>
        </p:blipFill>
        <p:spPr>
          <a:xfrm>
            <a:off x="1752480" y="1447920"/>
            <a:ext cx="563904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70872"/>
          <a:stretch/>
        </p:blipFill>
        <p:spPr>
          <a:xfrm>
            <a:off x="1523880" y="1219320"/>
            <a:ext cx="5715000" cy="1257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2178" r="0" b="15233"/>
          <a:stretch/>
        </p:blipFill>
        <p:spPr>
          <a:xfrm>
            <a:off x="1523880" y="2438280"/>
            <a:ext cx="5715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1447920" y="1676520"/>
            <a:ext cx="60958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00200" y="1341360"/>
            <a:ext cx="57913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1600200" y="1447920"/>
            <a:ext cx="6095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19320" y="1143000"/>
            <a:ext cx="67816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1066680" y="1295280"/>
            <a:ext cx="72392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371600" y="1290600"/>
            <a:ext cx="632448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447920"/>
            <a:ext cx="64008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219320" y="1447920"/>
            <a:ext cx="64767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95280"/>
            <a:ext cx="6248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295280"/>
            <a:ext cx="6400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7:37:18Z</dcterms:modified>
  <cp:revision>216</cp:revision>
  <dc:subject/>
  <dc:title>Slide 1</dc:title>
</cp:coreProperties>
</file>